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E34BA-E806-4BE2-A29B-F2B2D5BAF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2ED2E-C136-40E0-B951-013F840CA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39DF36-951F-4708-8459-3FB3A9B96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C747D0-6811-4AC6-82B8-4622A319D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949EF6-3E88-41F5-9340-9108B0FA0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61B500-4636-40ED-9915-17185AEDB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B59F9A-2DB7-4D14-9A7C-48AD1653E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EE9241-4109-4D76-8C49-6EA2D0C2D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74A225-4272-4E95-AECD-DAF42F2C3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5BB673-5FF4-4459-B129-B0A638F19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3107BD-B422-4798-8AD6-B52260934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B0DC4A-B1DD-4BD5-B653-70C4DBC6A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39F9E-D164-4448-808C-F092CC70B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2F75A5-F4B4-4D16-B310-AEA8B0B89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2C19E5-DA0B-4DDA-B00F-7EE38F63C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036AFD-F481-4DA8-B5A7-CD12CCF98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D1623E-C685-476E-B1A1-F75F45D1C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C7AAEA-D68B-420D-9DC9-966D02D58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B3D709-26B5-491B-A805-9D14BDDAC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1A4DC7-B0BA-4C49-BFE9-7D39C23EF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FA16F6-ED45-4B53-97C0-0489EC3F5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F1776C-F05C-49E1-A3D3-1F7C9FB2E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BBCE9E-4740-4A86-AEE9-AD057AB97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04475-30B8-4B56-9F21-DC4A02149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91FF0D-C83B-44B0-A6B9-AF275AF9A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89242F-AF5D-4295-AB58-69941E174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009A7B-7359-4C73-B01E-DA041BBE0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BAC312-FBB8-410A-8ACA-239383512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566B34-F432-4B71-B7A2-4EEA98591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B4A380-0264-4F4E-BB2D-14AD4F8A2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2D24EC-326B-4959-BA90-D860E5DB1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7BD2B3-BA1A-4B72-9B0E-B352BB18B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8524AE-20C4-4E76-AD6A-34DB61496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70D4DC-A7B8-41BE-96D5-5A5E44083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10912-500B-44BF-855F-55AD1B0A5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79C409-5C15-41C2-A629-07EC5863E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8E95E6-C2C4-4311-A975-C679E9ADF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BE8760-DB73-4987-A779-D873240E8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E8B73E-50EC-4B45-85CF-A73636EB7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6066AC-4ED6-4B16-9689-CD58C4833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D40D02-2979-4F37-AA97-000653BA5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EED5FB-041B-40F2-B2E2-851513A32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A437CA-BEA9-4422-88DF-BDC9D9335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2191D9-E3EA-40FF-8B5E-E02E292EC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A4ADBE-EF4F-48E9-8FF4-402E8DCBD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6785C-290F-44C4-A3CB-086985DB0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EBC047-9EE6-4440-9FE3-ACBF4EFF7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270F1D-5B1C-447B-82C9-857635DE8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966A4E-828D-4F65-9DD8-A89FE629F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1280CA-98F2-4DE9-A49E-38BC50064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5B956A-4820-4E45-9299-88DFB503B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06D7B04-DC9F-4C96-ABE9-E4356934A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D64DCE9-84B8-467F-B649-F231A5229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94DB0E4-F7D8-4A0C-934C-E8D37FA3B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487439B-9E31-49BF-B4B3-26795485A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2C13B42-1B7D-4ADA-A477-1AED373DA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9D43D-6560-49EB-ADC4-782836AD7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D6C6D9B-21D8-4882-909D-09359EBB0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D885A87-C7F1-4FDC-8F97-A32D0B468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C4222B1-EA31-4D50-9A07-7A923D1E8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C180B2B-E4BC-4DDA-AF9A-5A4797D7F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D78F804-D1F6-4D08-85E1-1EDC961B5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FD86B5F-7F23-4C3E-B1E9-6B3FED34F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C925691-B29B-445E-84D0-447A895E4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B117857-B8D4-4B65-96DD-1E061C104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407387D-C37A-4C26-A37A-C6087C90E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D24BFE6-2646-4F97-B57C-1DDD25ACB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993BA-1B10-4CC8-A9C7-EF8220424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3C9FCAA-EE61-4E70-A219-26BB6CBBE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C18BF8A-5546-4704-BAD9-9ABDDDFD7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633F593-0EF7-4008-B9B9-CF4345E31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0CB3BAE-EB9E-4756-A9D5-72B6EAAA7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0AAF648-8E19-438C-BD48-E10786515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A03DBB7-D586-40F6-974C-36593912F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581E0E4-7583-4C6D-9F6E-DC34B3924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B17F364-5831-401C-8CC5-6C35AAEE6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353A0E3-4D26-48D9-B1B2-9BF6C22E7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D3652C1-0B01-4B43-8F76-3FE33F831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9ADCB-605C-4367-9A37-254ADBA6B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BDA7642-6E5A-4338-ABA9-6F5BDC62B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BC72CFF-DF06-42FC-82F5-BC4A331A7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68655A6-8379-4482-9522-4BC97BF54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47F1CB3-9F22-4AB5-AD39-DC8E9F77D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A659486-BE2B-47A4-8D29-2F2450442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A37AF3F-96ED-463C-9021-5E85B47B4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B780950-DB8A-40F2-AE46-92E5560A1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BF0A166-25F2-4D7E-99A7-3F65C4460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7129B57-8263-4857-9E60-D7A7D4B46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AE9A5FC-5524-45C1-AB38-B3BB0AF6B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5DAC5-8DD6-417B-92C8-7A61ECAA8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C689A07-8CB6-4C8F-A9E4-298821E20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EFF6C60-FC7D-4AE3-BB4E-97711B800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7C88F18-161C-4B22-B0D0-397C91340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8015C09-00B4-4DB0-8D8C-E8DACFB2D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5126AA8-472A-4C52-8CDA-B74C640B0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0D5C021-C47D-4F0F-A86E-02C11548E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1FE758E-C887-47D9-B70F-5EBFDE807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C44DA40-7C56-4403-B42D-3EF14A2B8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AA1519A-9AFE-4336-8705-0380A3470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02CA8BB-BC96-465F-AB62-828E34FE7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E9F0F-7ECC-48B9-BEA0-2DF40037C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1107C29-3605-4A8C-8FDC-BFC10812F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9729952-D521-46BB-A63C-E9E920FF1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B103D0D-92B0-431D-AF07-346B1E6E1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B2FF404-C472-4EEC-967D-CEE68C430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DBA76BC-89AE-425C-898A-A00C67BAC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E8385FC-729B-427B-AE22-9BE7343F7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860AF74-3EDA-44A6-8EB3-76BE6D9F6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E695633-D62A-423E-83FB-7C736F14A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2D1ECE8-EC9B-4EA5-AA25-D4C88571F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BF89AC8-2F92-4830-AA9C-4339C5EB8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0C1B4-08BC-419B-B115-AF13E03C7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D69D8-8B41-4A24-921A-AC59D545F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B424DA0-3973-4F11-B0E7-7C2491C05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DB4E919-395E-47FA-9B42-53ACF2CB9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CD50971-34FA-4534-9D03-E2A541645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9B54C7F-C91F-40DE-932A-F221E92CF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54A7D71-FDB6-4AFE-9C86-1B7C29455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6A628B4-F25F-40D3-B3F1-09322F1DA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7BA334C-E4CF-4E34-83C7-39E8C25B0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DFFDB02-E297-45D4-96CD-27550C72F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857EE78-3DE1-405A-9C9C-B471E3F25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75BD3D3-F323-4880-8A04-1EE6F1786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BAB3E-E469-4683-AF4D-02A20FFD3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21DCCEA-72B9-48F5-BE49-8DED63689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51FD779-7792-4CB6-815F-499D06383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C7D75BC-4AE5-4C58-8164-BA7E04C36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5FF3522-F655-4FF6-BA05-881CE69DE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3930072-19B3-40D9-A3BA-B26392B79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9975791-8443-4E17-AD28-4BD67C1CE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1CD4117-4B06-40A5-9C58-DC1868A13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D895676-5F2E-4601-B5B8-F4DE233BC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F54B9D4-E778-48C8-91B0-D4E7F3035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289FCE1-A5B5-4F5E-94D5-FE5432003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7B566-E766-4F2E-8A58-630A5282B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C1CF97F-4DA8-4F73-B068-5EA52CF15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F10E4C8-77CB-45EF-BCBD-741E30AF1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A4A3F86-5CB9-49B0-91B3-766A3EDFD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A400FA8-55F8-4E94-9FC5-F20AC09F9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A6B0247-D820-40E4-91A3-0F77FA00D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2E9FD16-A197-40F4-A11A-EB597DA48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752BF0E-B4D8-4FF7-8B0E-D69DD56BC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6AE85A7-5B7E-4997-BDF0-189CDCA30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8F5F807-C8CC-49DA-800B-1AC1D36ED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7BA0B1D-0D3F-47DD-B2CA-DEBF758C8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8654E-3760-4A20-BCF6-56C71A0BA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4122651-3426-4CBA-969A-6B3A8B8F7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3A8A267-21A6-49E9-A745-C5EC02EEE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8FE3E1A-1310-4E73-B916-AE1DC6EDB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9A08043-7803-4123-8224-FD76721B0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90E187A-5FB9-430D-8A5F-11A28D531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1B8CC2B-CE22-4159-AFF4-6C6BC8110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ECAE223-5EA6-4B98-9DBB-E422147CB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57D975C-149A-4EF4-ADA1-81CBDC465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CF34EE5-C30C-41E6-95E4-6EEAEE97E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9EFA01F-5DDA-4254-B5B5-778D7DA0D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D98E3-D646-49A9-8613-BE45EDEFD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7D0C21D-A61F-45FD-8F0A-D4A9031FB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509E05B-DB16-4642-91D9-0A308954B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70750FB-238E-48CD-AAC4-D57BD5077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C0B11CB-8043-4F1A-BC33-BBEED4113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3ADC65C-10C8-413E-BB59-EA9AD5D26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B34C970-E0C7-4DA9-8C45-C57582D30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B7F5962-17CF-4138-BFAD-907464516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5193C91-153B-472B-B8F6-3B47C56C7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EA30ABA-A04C-413C-92DC-DBB414718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A54D940-7B8F-473A-8D7C-B19FCF7F6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83F591-ACBB-4AFD-B257-312A276F8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2BB8AE0-14DD-4D2D-8F1B-67F73D099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CB964CB-5B00-4596-BC58-056C59683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D425765-B3A5-44F2-A0C1-43245BDEF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1F00A6-8FB5-4619-855E-8E8CD8931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1582A1-90AA-4CC3-899B-5FC17BE24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414C78-3C5E-4BD2-8EBB-0A6F65E51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51267F-6E90-495A-A69A-83690C607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1904D-4CB0-493A-967B-A39669302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812111-EC3E-4325-9B7E-E96196327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E07785-B4C1-4BAE-9F6C-A6969F67C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6F625E-3743-4A3E-AE3E-652C8A75D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3136ED-E355-47F8-8396-93F042B2C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F14AF2-8D28-4EF2-895A-C768B27D2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F4F081-0331-441B-AD4E-CF38FF50D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AE08C2-3BE1-4AA1-9D81-9C090DBC1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8D0CDE-C1F0-4B40-97E0-D9D4F6CA7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20871E-48A5-47EC-935B-A25F22327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EA2429-434D-4817-BEB3-99811F59D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742DB-44C1-4DF5-AA43-190585BB5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DC4CE5-122C-4AC3-A962-D82821C12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875369-CFEC-4975-A3DE-365CB336F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AFD114-85B9-4049-9C47-22E616D3B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1A6C19-CACB-4EB3-80EC-CDB04A1D9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062152-5777-493B-A669-74DC3CEE8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EDFF1B-FA07-4CCD-83E2-B9E30CEB6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01BD43-6876-4EE0-873E-98C0C3274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18A815-5B2D-465D-8437-D9DB5D1A0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22E376-FF77-4EF5-B42C-7893CB0C2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27F1B2-2B4D-4C06-A4EF-9C068C465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AD273-CAB0-48D9-8A0C-E690B092D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C830C6-9FC2-4AAA-9AC1-BEA0C0100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0DA75C-CFDE-478A-83DB-E08A15BD3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87AF8F-F738-4DDB-B7A0-F9953C643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EA778F-C4CE-4ACE-BEF9-8904B6F88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4409B4-6384-484D-BB77-5F1EDCB65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AA9CDE-1F8A-43B0-9D18-C7FEB8F48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77A4DA-BA05-437A-B8A5-CE7C8AC69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DB20D8-5F51-4CF2-AF0E-D0F540B5D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EF9E83-3452-4927-8DAE-05740551C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BDD60B-9F2F-4379-875A-556B20299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95249-A34A-4EAF-A6FF-E3C8F1A4A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7148A1-EA89-4F6A-AE3C-795F79C97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A15CEE-1823-4899-BF87-4E9F4C431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0AB867-0EC3-410E-897F-20A754668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9F880C-9136-4070-82A6-49E58320B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876F07-7A1B-4766-AAAF-A653FD7BA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D0983C-0253-4C66-8982-1BEE4FA9A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130B2C-CB5F-4939-B950-2B71D3B69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A385E5-4061-4FC8-8DDB-F2A87CA28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9DD3F1-8B83-4BA8-A613-2720F21DC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7AD321-569F-4631-BABD-0FCF620EF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66212-B14F-4DAA-BDA9-BA8F5E7CC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D7D3AF-592E-4813-A40A-A97472818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23D008-B5F5-40B7-9874-7147AC8BE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E7D1BD-1F40-47FA-83F6-40B7C6189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6911B2-5C49-49CA-968C-347849DAF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827D02-215C-4C5E-AF19-3E32F6972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DA9481-27E5-433E-9649-9DB45AC7E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7A8048-1573-44E7-A0AA-2707BDD68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9E1C90-D528-4766-900A-9AF46406B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3E1044-FFBA-45C8-8015-D8D026F9E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DFDE31-717D-4E14-9BED-1769BA3B4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61713-8781-4A03-B9F5-7DBF3118F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BCD62A-BC59-40B4-8060-20B47EF4B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035EB7-0947-4B4C-AE4E-2BA19BF4A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F336EC-F2FD-4314-83E7-57E304705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1B6C1E-A663-4449-983C-8EEF9E9E2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9A5F6F-CC11-4459-90DB-601AB27AE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6DC4FC-F768-4CE0-8336-593A5EAFC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9316B3-4F85-46C7-B0AD-74540893E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C83B74-990B-4B52-91A4-6B9C25574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2D5F81-F533-4BA7-A5F4-D768A14B3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498E40-4D8A-40C1-A0C9-10E0450AD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12B2B-ACF1-4904-B235-AF3267C94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4D900F-F9C0-43A6-B213-71A5B2C5D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08C96F-1C34-4B7F-B49A-B4DDE9630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8A4E92-D5EF-47F8-8175-0B2D62A04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551606-27AC-4FA5-B4AE-38D140608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348FBC-9F76-46F8-B78F-C0066302A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ED70BE-6195-4726-94DA-EE7B76207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E5D2F0-AB2A-4932-9F45-D4341F1A2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45D3D1-4E2F-41EF-8C14-57FE19431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F3D760-0608-4A4C-B1A1-46C975A2F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A0B905-3FE5-4EB0-A5EB-052F8C4D5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6D5DC-DB79-42C9-B241-76E308A8A48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E3CE6-873C-444F-A411-F4474281326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78FB2-D5CE-4091-919D-E78D13DCBAA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F6DCD-1020-44A1-AD4D-99190E5DE71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7C9FE-39DC-463C-928F-F76C8146569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E47BC-166A-41DF-A6D4-6ECF2A92B72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B10E0-73CC-47C6-ADB7-F78B7715996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1E543-F69B-4961-A41E-E2D5027DEB0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EE4EF-30D7-42A6-8D30-B4078496261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05C7E-FABE-4D0A-90CD-3DC2C28EBE1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41F47-8D8D-4DC2-9150-B0F58C23C7A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3ED85-BD26-41DB-8843-2EA5DDF1511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4CF52-BF8E-4A2F-8354-7C4F11FDF0B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95414-AE3C-426C-988E-D877514A59E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9139B-0B37-4098-A6B9-BBD08B318B2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C551B-BBB1-473D-A530-9657B53137F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6C1B8-6092-41D8-9267-D79AFC3BEBF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36F2D-9CAA-4659-9E18-433CB108700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6D6E5-B847-422A-B6FB-140912740E6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CF05E-B078-429D-B426-CAE807BD067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A5182-C5A5-4133-99E4-80846D12F48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D4421-0B51-4D2C-BEF9-5537F92381C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B0B00-167E-4D46-A993-6D09496C9D9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3F743-8637-409A-85F1-41564121337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AC3E4-BA6F-4393-B08E-DB81A9CA1FF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D65F8-7647-44C2-AF8F-EDE5BCAD26F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D459A-438F-4F3A-B057-20161B55B9D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11CAA-799E-4917-BA7B-FAF66F103E8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5EB3C-5F57-49A2-A21E-4D2517D3A1B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0A947-8A47-446C-A720-94FEAA7CC05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4335E-EF38-4F46-AB22-798250B776E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AE474-9331-4D52-8691-4F5FF69CEA1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74B55-3020-48C2-8ECD-4380F229C76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57933-C13C-4601-851F-9924E2FE83C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386F5-DA1C-42E6-82EF-8B86F9A058B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8ED5C-691F-435A-BBF5-5CEE50442FB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0042A-36E3-4D33-9E84-B4158FC359D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4AC15-899B-4465-82D0-F7CA6A6A845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E19BB-A099-4CA4-80D6-1FE4E1EFC25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4590B-51FF-4AED-B441-FCA30EAD586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image" Target="../media/image12.png"/><Relationship Id="rId11" Type="http://schemas.openxmlformats.org/officeDocument/2006/relationships/image" Target="../media/image12.png"/><Relationship Id="rId12" Type="http://schemas.openxmlformats.org/officeDocument/2006/relationships/image" Target="../media/image12.png"/><Relationship Id="rId1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338040" y="1484280"/>
            <a:ext cx="8467920" cy="1066680"/>
          </a:xfrm>
          <a:prstGeom prst="rect">
            <a:avLst/>
          </a:prstGeom>
          <a:ln w="0">
            <a:noFill/>
          </a:ln>
        </p:spPr>
      </p:pic>
      <p:pic>
        <p:nvPicPr>
          <p:cNvPr id="922" name="图片 28679" descr=""/>
          <p:cNvPicPr/>
          <p:nvPr/>
        </p:nvPicPr>
        <p:blipFill>
          <a:blip r:embed="rId2"/>
          <a:stretch/>
        </p:blipFill>
        <p:spPr>
          <a:xfrm>
            <a:off x="3419640" y="3214800"/>
            <a:ext cx="2304720" cy="790560"/>
          </a:xfrm>
          <a:prstGeom prst="rect">
            <a:avLst/>
          </a:prstGeom>
          <a:ln w="0">
            <a:noFill/>
          </a:ln>
        </p:spPr>
      </p:pic>
      <p:pic>
        <p:nvPicPr>
          <p:cNvPr id="923" name="图片 28680" descr=""/>
          <p:cNvPicPr/>
          <p:nvPr/>
        </p:nvPicPr>
        <p:blipFill>
          <a:blip r:embed="rId3"/>
          <a:stretch/>
        </p:blipFill>
        <p:spPr>
          <a:xfrm>
            <a:off x="320760" y="4437000"/>
            <a:ext cx="8354880" cy="5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1" name="图片 69633" descr=""/>
          <p:cNvPicPr/>
          <p:nvPr/>
        </p:nvPicPr>
        <p:blipFill>
          <a:blip r:embed="rId1"/>
          <a:stretch/>
        </p:blipFill>
        <p:spPr>
          <a:xfrm>
            <a:off x="1038240" y="836640"/>
            <a:ext cx="7067520" cy="2257560"/>
          </a:xfrm>
          <a:prstGeom prst="rect">
            <a:avLst/>
          </a:prstGeom>
          <a:ln w="0">
            <a:noFill/>
          </a:ln>
        </p:spPr>
      </p:pic>
      <p:pic>
        <p:nvPicPr>
          <p:cNvPr id="962" name="图片 69634" descr=""/>
          <p:cNvPicPr/>
          <p:nvPr/>
        </p:nvPicPr>
        <p:blipFill>
          <a:blip r:embed="rId2"/>
          <a:stretch/>
        </p:blipFill>
        <p:spPr>
          <a:xfrm>
            <a:off x="285840" y="3370320"/>
            <a:ext cx="8572320" cy="2219400"/>
          </a:xfrm>
          <a:prstGeom prst="rect">
            <a:avLst/>
          </a:prstGeom>
          <a:ln w="0">
            <a:noFill/>
          </a:ln>
        </p:spPr>
      </p:pic>
      <p:pic>
        <p:nvPicPr>
          <p:cNvPr id="963" name="Picture 1" descr=""/>
          <p:cNvPicPr/>
          <p:nvPr/>
        </p:nvPicPr>
        <p:blipFill>
          <a:blip r:embed="rId3"/>
          <a:stretch/>
        </p:blipFill>
        <p:spPr>
          <a:xfrm>
            <a:off x="4211640" y="1427040"/>
            <a:ext cx="647640" cy="447840"/>
          </a:xfrm>
          <a:prstGeom prst="rect">
            <a:avLst/>
          </a:prstGeom>
          <a:ln w="0">
            <a:noFill/>
          </a:ln>
        </p:spPr>
      </p:pic>
      <p:pic>
        <p:nvPicPr>
          <p:cNvPr id="964" name="Picture 1" descr=""/>
          <p:cNvPicPr/>
          <p:nvPr/>
        </p:nvPicPr>
        <p:blipFill>
          <a:blip r:embed="rId4"/>
          <a:stretch/>
        </p:blipFill>
        <p:spPr>
          <a:xfrm>
            <a:off x="4643280" y="2060640"/>
            <a:ext cx="648000" cy="447480"/>
          </a:xfrm>
          <a:prstGeom prst="rect">
            <a:avLst/>
          </a:prstGeom>
          <a:ln w="0">
            <a:noFill/>
          </a:ln>
        </p:spPr>
      </p:pic>
      <p:pic>
        <p:nvPicPr>
          <p:cNvPr id="965" name="Picture 1" descr=""/>
          <p:cNvPicPr/>
          <p:nvPr/>
        </p:nvPicPr>
        <p:blipFill>
          <a:blip r:embed="rId5"/>
          <a:stretch/>
        </p:blipFill>
        <p:spPr>
          <a:xfrm>
            <a:off x="6948360" y="1413000"/>
            <a:ext cx="648000" cy="447480"/>
          </a:xfrm>
          <a:prstGeom prst="rect">
            <a:avLst/>
          </a:prstGeom>
          <a:ln w="0">
            <a:noFill/>
          </a:ln>
        </p:spPr>
      </p:pic>
      <p:pic>
        <p:nvPicPr>
          <p:cNvPr id="966" name="Picture 1" descr=""/>
          <p:cNvPicPr/>
          <p:nvPr/>
        </p:nvPicPr>
        <p:blipFill>
          <a:blip r:embed="rId6"/>
          <a:stretch/>
        </p:blipFill>
        <p:spPr>
          <a:xfrm>
            <a:off x="7020000" y="2017800"/>
            <a:ext cx="1008000" cy="447480"/>
          </a:xfrm>
          <a:prstGeom prst="rect">
            <a:avLst/>
          </a:prstGeom>
          <a:ln w="0">
            <a:noFill/>
          </a:ln>
        </p:spPr>
      </p:pic>
      <p:pic>
        <p:nvPicPr>
          <p:cNvPr id="967" name="Picture 1" descr=""/>
          <p:cNvPicPr/>
          <p:nvPr/>
        </p:nvPicPr>
        <p:blipFill>
          <a:blip r:embed="rId7"/>
          <a:stretch/>
        </p:blipFill>
        <p:spPr>
          <a:xfrm>
            <a:off x="2050920" y="3990960"/>
            <a:ext cx="1008360" cy="447840"/>
          </a:xfrm>
          <a:prstGeom prst="rect">
            <a:avLst/>
          </a:prstGeom>
          <a:ln w="0">
            <a:noFill/>
          </a:ln>
        </p:spPr>
      </p:pic>
      <p:pic>
        <p:nvPicPr>
          <p:cNvPr id="968" name="Picture 1" descr=""/>
          <p:cNvPicPr/>
          <p:nvPr/>
        </p:nvPicPr>
        <p:blipFill>
          <a:blip r:embed="rId8"/>
          <a:stretch/>
        </p:blipFill>
        <p:spPr>
          <a:xfrm>
            <a:off x="1619280" y="4581360"/>
            <a:ext cx="1008000" cy="447840"/>
          </a:xfrm>
          <a:prstGeom prst="rect">
            <a:avLst/>
          </a:prstGeom>
          <a:ln w="0">
            <a:noFill/>
          </a:ln>
        </p:spPr>
      </p:pic>
      <p:pic>
        <p:nvPicPr>
          <p:cNvPr id="969" name="Picture 1" descr=""/>
          <p:cNvPicPr/>
          <p:nvPr/>
        </p:nvPicPr>
        <p:blipFill>
          <a:blip r:embed="rId9"/>
          <a:stretch/>
        </p:blipFill>
        <p:spPr>
          <a:xfrm>
            <a:off x="5191200" y="3990960"/>
            <a:ext cx="1008000" cy="447840"/>
          </a:xfrm>
          <a:prstGeom prst="rect">
            <a:avLst/>
          </a:prstGeom>
          <a:ln w="0">
            <a:noFill/>
          </a:ln>
        </p:spPr>
      </p:pic>
      <p:pic>
        <p:nvPicPr>
          <p:cNvPr id="970" name="Picture 1" descr=""/>
          <p:cNvPicPr/>
          <p:nvPr/>
        </p:nvPicPr>
        <p:blipFill>
          <a:blip r:embed="rId10"/>
          <a:stretch/>
        </p:blipFill>
        <p:spPr>
          <a:xfrm>
            <a:off x="5176800" y="4595760"/>
            <a:ext cx="1008000" cy="447840"/>
          </a:xfrm>
          <a:prstGeom prst="rect">
            <a:avLst/>
          </a:prstGeom>
          <a:ln w="0">
            <a:noFill/>
          </a:ln>
        </p:spPr>
      </p:pic>
      <p:pic>
        <p:nvPicPr>
          <p:cNvPr id="971" name="Picture 1" descr=""/>
          <p:cNvPicPr/>
          <p:nvPr/>
        </p:nvPicPr>
        <p:blipFill>
          <a:blip r:embed="rId11"/>
          <a:stretch/>
        </p:blipFill>
        <p:spPr>
          <a:xfrm>
            <a:off x="8136000" y="3976560"/>
            <a:ext cx="757080" cy="447840"/>
          </a:xfrm>
          <a:prstGeom prst="rect">
            <a:avLst/>
          </a:prstGeom>
          <a:ln w="0">
            <a:noFill/>
          </a:ln>
        </p:spPr>
      </p:pic>
      <p:pic>
        <p:nvPicPr>
          <p:cNvPr id="972" name="Picture 1" descr=""/>
          <p:cNvPicPr/>
          <p:nvPr/>
        </p:nvPicPr>
        <p:blipFill>
          <a:blip r:embed="rId12"/>
          <a:stretch/>
        </p:blipFill>
        <p:spPr>
          <a:xfrm>
            <a:off x="8143920" y="4581360"/>
            <a:ext cx="75708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7" dur="10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2" dur="10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7" dur="10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2" dur="10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7" dur="10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2" dur="10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7" dur="10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2" dur="10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7" dur="10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2" dur="10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4" name="图片 60428" descr=""/>
          <p:cNvPicPr/>
          <p:nvPr/>
        </p:nvPicPr>
        <p:blipFill>
          <a:blip r:embed="rId1"/>
          <a:stretch/>
        </p:blipFill>
        <p:spPr>
          <a:xfrm>
            <a:off x="314280" y="1228680"/>
            <a:ext cx="8515440" cy="440064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1" descr=""/>
          <p:cNvPicPr/>
          <p:nvPr/>
        </p:nvPicPr>
        <p:blipFill>
          <a:blip r:embed="rId2"/>
          <a:stretch/>
        </p:blipFill>
        <p:spPr>
          <a:xfrm>
            <a:off x="3492360" y="3429000"/>
            <a:ext cx="1366920" cy="44784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1" descr=""/>
          <p:cNvPicPr/>
          <p:nvPr/>
        </p:nvPicPr>
        <p:blipFill>
          <a:blip r:embed="rId3"/>
          <a:stretch/>
        </p:blipFill>
        <p:spPr>
          <a:xfrm>
            <a:off x="5076720" y="4970520"/>
            <a:ext cx="647640" cy="44748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1" descr=""/>
          <p:cNvPicPr/>
          <p:nvPr/>
        </p:nvPicPr>
        <p:blipFill>
          <a:blip r:embed="rId4"/>
          <a:stretch/>
        </p:blipFill>
        <p:spPr>
          <a:xfrm>
            <a:off x="6127920" y="4984920"/>
            <a:ext cx="576000" cy="447480"/>
          </a:xfrm>
          <a:prstGeom prst="rect">
            <a:avLst/>
          </a:prstGeom>
          <a:ln w="0">
            <a:noFill/>
          </a:ln>
        </p:spPr>
      </p:pic>
      <p:pic>
        <p:nvPicPr>
          <p:cNvPr id="928" name="Picture 1" descr=""/>
          <p:cNvPicPr/>
          <p:nvPr/>
        </p:nvPicPr>
        <p:blipFill>
          <a:blip r:embed="rId5"/>
          <a:stretch/>
        </p:blipFill>
        <p:spPr>
          <a:xfrm>
            <a:off x="7308720" y="4249800"/>
            <a:ext cx="100836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10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9" name="图片 59410" descr=""/>
          <p:cNvPicPr/>
          <p:nvPr/>
        </p:nvPicPr>
        <p:blipFill>
          <a:blip r:embed="rId1"/>
          <a:stretch/>
        </p:blipFill>
        <p:spPr>
          <a:xfrm>
            <a:off x="790560" y="1662120"/>
            <a:ext cx="7562880" cy="353376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1" descr=""/>
          <p:cNvPicPr/>
          <p:nvPr/>
        </p:nvPicPr>
        <p:blipFill>
          <a:blip r:embed="rId2"/>
          <a:stretch/>
        </p:blipFill>
        <p:spPr>
          <a:xfrm>
            <a:off x="5637240" y="2060640"/>
            <a:ext cx="360360" cy="447480"/>
          </a:xfrm>
          <a:prstGeom prst="rect">
            <a:avLst/>
          </a:prstGeom>
          <a:ln w="0">
            <a:noFill/>
          </a:ln>
        </p:spPr>
      </p:pic>
      <p:pic>
        <p:nvPicPr>
          <p:cNvPr id="931" name="Picture 1" descr=""/>
          <p:cNvPicPr/>
          <p:nvPr/>
        </p:nvPicPr>
        <p:blipFill>
          <a:blip r:embed="rId3"/>
          <a:stretch/>
        </p:blipFill>
        <p:spPr>
          <a:xfrm>
            <a:off x="5651640" y="2478240"/>
            <a:ext cx="476280" cy="447480"/>
          </a:xfrm>
          <a:prstGeom prst="rect">
            <a:avLst/>
          </a:prstGeom>
          <a:ln w="0">
            <a:noFill/>
          </a:ln>
        </p:spPr>
      </p:pic>
      <p:pic>
        <p:nvPicPr>
          <p:cNvPr id="932" name="Picture 1" descr=""/>
          <p:cNvPicPr/>
          <p:nvPr/>
        </p:nvPicPr>
        <p:blipFill>
          <a:blip r:embed="rId4"/>
          <a:stretch/>
        </p:blipFill>
        <p:spPr>
          <a:xfrm>
            <a:off x="5637240" y="3111480"/>
            <a:ext cx="360360" cy="447840"/>
          </a:xfrm>
          <a:prstGeom prst="rect">
            <a:avLst/>
          </a:prstGeom>
          <a:ln w="0">
            <a:noFill/>
          </a:ln>
        </p:spPr>
      </p:pic>
      <p:pic>
        <p:nvPicPr>
          <p:cNvPr id="933" name="Picture 1" descr=""/>
          <p:cNvPicPr/>
          <p:nvPr/>
        </p:nvPicPr>
        <p:blipFill>
          <a:blip r:embed="rId5"/>
          <a:stretch/>
        </p:blipFill>
        <p:spPr>
          <a:xfrm>
            <a:off x="5651640" y="3529080"/>
            <a:ext cx="476280" cy="447480"/>
          </a:xfrm>
          <a:prstGeom prst="rect">
            <a:avLst/>
          </a:prstGeom>
          <a:ln w="0">
            <a:noFill/>
          </a:ln>
        </p:spPr>
      </p:pic>
      <p:pic>
        <p:nvPicPr>
          <p:cNvPr id="934" name="Picture 1" descr=""/>
          <p:cNvPicPr/>
          <p:nvPr/>
        </p:nvPicPr>
        <p:blipFill>
          <a:blip r:embed="rId6"/>
          <a:stretch/>
        </p:blipFill>
        <p:spPr>
          <a:xfrm>
            <a:off x="1201680" y="3241800"/>
            <a:ext cx="1052640" cy="447480"/>
          </a:xfrm>
          <a:prstGeom prst="rect">
            <a:avLst/>
          </a:prstGeom>
          <a:ln w="0">
            <a:noFill/>
          </a:ln>
        </p:spPr>
      </p:pic>
      <p:pic>
        <p:nvPicPr>
          <p:cNvPr id="935" name="Picture 1" descr=""/>
          <p:cNvPicPr/>
          <p:nvPr/>
        </p:nvPicPr>
        <p:blipFill>
          <a:blip r:embed="rId7"/>
          <a:stretch/>
        </p:blipFill>
        <p:spPr>
          <a:xfrm>
            <a:off x="3995640" y="4551480"/>
            <a:ext cx="1368360" cy="447480"/>
          </a:xfrm>
          <a:prstGeom prst="rect">
            <a:avLst/>
          </a:prstGeom>
          <a:ln w="0">
            <a:noFill/>
          </a:ln>
        </p:spPr>
      </p:pic>
      <p:pic>
        <p:nvPicPr>
          <p:cNvPr id="936" name="Picture 1" descr=""/>
          <p:cNvPicPr/>
          <p:nvPr/>
        </p:nvPicPr>
        <p:blipFill>
          <a:blip r:embed="rId8"/>
          <a:stretch/>
        </p:blipFill>
        <p:spPr>
          <a:xfrm>
            <a:off x="1230480" y="4192560"/>
            <a:ext cx="141120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" dur="10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10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10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10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10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10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8" dur="10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7" name="图片 58373" descr=""/>
          <p:cNvPicPr/>
          <p:nvPr/>
        </p:nvPicPr>
        <p:blipFill>
          <a:blip r:embed="rId1"/>
          <a:stretch/>
        </p:blipFill>
        <p:spPr>
          <a:xfrm>
            <a:off x="671400" y="109440"/>
            <a:ext cx="7801200" cy="6639120"/>
          </a:xfrm>
          <a:prstGeom prst="rect">
            <a:avLst/>
          </a:prstGeom>
          <a:ln w="0">
            <a:noFill/>
          </a:ln>
        </p:spPr>
      </p:pic>
      <p:pic>
        <p:nvPicPr>
          <p:cNvPr id="938" name="Picture 1" descr=""/>
          <p:cNvPicPr/>
          <p:nvPr/>
        </p:nvPicPr>
        <p:blipFill>
          <a:blip r:embed="rId2"/>
          <a:stretch/>
        </p:blipFill>
        <p:spPr>
          <a:xfrm>
            <a:off x="1187280" y="2133720"/>
            <a:ext cx="2521080" cy="172692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1" descr=""/>
          <p:cNvPicPr/>
          <p:nvPr/>
        </p:nvPicPr>
        <p:blipFill>
          <a:blip r:embed="rId3"/>
          <a:stretch/>
        </p:blipFill>
        <p:spPr>
          <a:xfrm>
            <a:off x="5148360" y="2133720"/>
            <a:ext cx="2952720" cy="1726920"/>
          </a:xfrm>
          <a:prstGeom prst="rect">
            <a:avLst/>
          </a:prstGeom>
          <a:ln w="0">
            <a:noFill/>
          </a:ln>
        </p:spPr>
      </p:pic>
      <p:pic>
        <p:nvPicPr>
          <p:cNvPr id="940" name="Picture 1" descr=""/>
          <p:cNvPicPr/>
          <p:nvPr/>
        </p:nvPicPr>
        <p:blipFill>
          <a:blip r:embed="rId4"/>
          <a:stretch/>
        </p:blipFill>
        <p:spPr>
          <a:xfrm>
            <a:off x="1332000" y="5245200"/>
            <a:ext cx="2952720" cy="1495440"/>
          </a:xfrm>
          <a:prstGeom prst="rect">
            <a:avLst/>
          </a:prstGeom>
          <a:ln w="0">
            <a:noFill/>
          </a:ln>
        </p:spPr>
      </p:pic>
      <p:pic>
        <p:nvPicPr>
          <p:cNvPr id="941" name="Picture 1" descr=""/>
          <p:cNvPicPr/>
          <p:nvPr/>
        </p:nvPicPr>
        <p:blipFill>
          <a:blip r:embed="rId5"/>
          <a:stretch/>
        </p:blipFill>
        <p:spPr>
          <a:xfrm>
            <a:off x="5076720" y="5248440"/>
            <a:ext cx="2952720" cy="14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5" dur="10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0" dur="10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5" dur="10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0" dur="10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2" name="图片 57352" descr=""/>
          <p:cNvPicPr/>
          <p:nvPr/>
        </p:nvPicPr>
        <p:blipFill>
          <a:blip r:embed="rId1"/>
          <a:stretch/>
        </p:blipFill>
        <p:spPr>
          <a:xfrm>
            <a:off x="738360" y="1204920"/>
            <a:ext cx="7667280" cy="4448160"/>
          </a:xfrm>
          <a:prstGeom prst="rect">
            <a:avLst/>
          </a:prstGeom>
          <a:ln w="0">
            <a:noFill/>
          </a:ln>
        </p:spPr>
      </p:pic>
      <p:pic>
        <p:nvPicPr>
          <p:cNvPr id="943" name="Picture 1" descr=""/>
          <p:cNvPicPr/>
          <p:nvPr/>
        </p:nvPicPr>
        <p:blipFill>
          <a:blip r:embed="rId2"/>
          <a:stretch/>
        </p:blipFill>
        <p:spPr>
          <a:xfrm>
            <a:off x="1187280" y="2708280"/>
            <a:ext cx="2592720" cy="2881440"/>
          </a:xfrm>
          <a:prstGeom prst="rect">
            <a:avLst/>
          </a:prstGeom>
          <a:ln w="0">
            <a:noFill/>
          </a:ln>
        </p:spPr>
      </p:pic>
      <p:pic>
        <p:nvPicPr>
          <p:cNvPr id="944" name="Picture 1" descr=""/>
          <p:cNvPicPr/>
          <p:nvPr/>
        </p:nvPicPr>
        <p:blipFill>
          <a:blip r:embed="rId3"/>
          <a:stretch/>
        </p:blipFill>
        <p:spPr>
          <a:xfrm>
            <a:off x="2987640" y="2046240"/>
            <a:ext cx="1368360" cy="447840"/>
          </a:xfrm>
          <a:prstGeom prst="rect">
            <a:avLst/>
          </a:prstGeom>
          <a:ln w="0">
            <a:noFill/>
          </a:ln>
        </p:spPr>
      </p:pic>
      <p:pic>
        <p:nvPicPr>
          <p:cNvPr id="945" name="Picture 1" descr=""/>
          <p:cNvPicPr/>
          <p:nvPr/>
        </p:nvPicPr>
        <p:blipFill>
          <a:blip r:embed="rId4"/>
          <a:stretch/>
        </p:blipFill>
        <p:spPr>
          <a:xfrm>
            <a:off x="5076720" y="2708280"/>
            <a:ext cx="2592360" cy="2881440"/>
          </a:xfrm>
          <a:prstGeom prst="rect">
            <a:avLst/>
          </a:prstGeom>
          <a:ln w="0">
            <a:noFill/>
          </a:ln>
        </p:spPr>
      </p:pic>
      <p:pic>
        <p:nvPicPr>
          <p:cNvPr id="946" name="Picture 1" descr=""/>
          <p:cNvPicPr/>
          <p:nvPr/>
        </p:nvPicPr>
        <p:blipFill>
          <a:blip r:embed="rId5"/>
          <a:stretch/>
        </p:blipFill>
        <p:spPr>
          <a:xfrm>
            <a:off x="6877080" y="2046240"/>
            <a:ext cx="136836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7" dur="10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2" dur="10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7" dur="10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2" dur="10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7" name="图片 56324" descr=""/>
          <p:cNvPicPr/>
          <p:nvPr/>
        </p:nvPicPr>
        <p:blipFill>
          <a:blip r:embed="rId1"/>
          <a:stretch/>
        </p:blipFill>
        <p:spPr>
          <a:xfrm>
            <a:off x="938160" y="1685880"/>
            <a:ext cx="7267680" cy="3486240"/>
          </a:xfrm>
          <a:prstGeom prst="rect">
            <a:avLst/>
          </a:prstGeom>
          <a:ln w="0">
            <a:noFill/>
          </a:ln>
        </p:spPr>
      </p:pic>
      <p:pic>
        <p:nvPicPr>
          <p:cNvPr id="948" name="Picture 1" descr=""/>
          <p:cNvPicPr/>
          <p:nvPr/>
        </p:nvPicPr>
        <p:blipFill>
          <a:blip r:embed="rId2"/>
          <a:stretch/>
        </p:blipFill>
        <p:spPr>
          <a:xfrm>
            <a:off x="1116000" y="2276640"/>
            <a:ext cx="3024360" cy="2808000"/>
          </a:xfrm>
          <a:prstGeom prst="rect">
            <a:avLst/>
          </a:prstGeom>
          <a:ln w="0">
            <a:noFill/>
          </a:ln>
        </p:spPr>
      </p:pic>
      <p:pic>
        <p:nvPicPr>
          <p:cNvPr id="949" name="Picture 1" descr=""/>
          <p:cNvPicPr/>
          <p:nvPr/>
        </p:nvPicPr>
        <p:blipFill>
          <a:blip r:embed="rId3"/>
          <a:stretch/>
        </p:blipFill>
        <p:spPr>
          <a:xfrm>
            <a:off x="2728800" y="1700280"/>
            <a:ext cx="1698840" cy="447480"/>
          </a:xfrm>
          <a:prstGeom prst="rect">
            <a:avLst/>
          </a:prstGeom>
          <a:ln w="0">
            <a:noFill/>
          </a:ln>
        </p:spPr>
      </p:pic>
      <p:pic>
        <p:nvPicPr>
          <p:cNvPr id="950" name="Picture 1" descr=""/>
          <p:cNvPicPr/>
          <p:nvPr/>
        </p:nvPicPr>
        <p:blipFill>
          <a:blip r:embed="rId4"/>
          <a:stretch/>
        </p:blipFill>
        <p:spPr>
          <a:xfrm>
            <a:off x="4859280" y="2276640"/>
            <a:ext cx="3024360" cy="2808000"/>
          </a:xfrm>
          <a:prstGeom prst="rect">
            <a:avLst/>
          </a:prstGeom>
          <a:ln w="0">
            <a:noFill/>
          </a:ln>
        </p:spPr>
      </p:pic>
      <p:pic>
        <p:nvPicPr>
          <p:cNvPr id="951" name="Picture 1" descr=""/>
          <p:cNvPicPr/>
          <p:nvPr/>
        </p:nvPicPr>
        <p:blipFill>
          <a:blip r:embed="rId5"/>
          <a:stretch/>
        </p:blipFill>
        <p:spPr>
          <a:xfrm>
            <a:off x="6618240" y="1700280"/>
            <a:ext cx="169884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9" dur="10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4" dur="10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9" dur="10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4" dur="10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2" name="图片 55300" descr=""/>
          <p:cNvPicPr/>
          <p:nvPr/>
        </p:nvPicPr>
        <p:blipFill>
          <a:blip r:embed="rId1"/>
          <a:stretch/>
        </p:blipFill>
        <p:spPr>
          <a:xfrm>
            <a:off x="285840" y="790560"/>
            <a:ext cx="8572320" cy="5591160"/>
          </a:xfrm>
          <a:prstGeom prst="rect">
            <a:avLst/>
          </a:prstGeom>
          <a:ln w="0">
            <a:noFill/>
          </a:ln>
        </p:spPr>
      </p:pic>
      <p:pic>
        <p:nvPicPr>
          <p:cNvPr id="953" name="Picture 1" descr=""/>
          <p:cNvPicPr/>
          <p:nvPr/>
        </p:nvPicPr>
        <p:blipFill>
          <a:blip r:embed="rId2"/>
          <a:stretch/>
        </p:blipFill>
        <p:spPr>
          <a:xfrm>
            <a:off x="1332000" y="5213520"/>
            <a:ext cx="6840360" cy="447480"/>
          </a:xfrm>
          <a:prstGeom prst="rect">
            <a:avLst/>
          </a:prstGeom>
          <a:ln w="0">
            <a:noFill/>
          </a:ln>
        </p:spPr>
      </p:pic>
      <p:pic>
        <p:nvPicPr>
          <p:cNvPr id="954" name="Picture 1" descr=""/>
          <p:cNvPicPr/>
          <p:nvPr/>
        </p:nvPicPr>
        <p:blipFill>
          <a:blip r:embed="rId3"/>
          <a:stretch/>
        </p:blipFill>
        <p:spPr>
          <a:xfrm>
            <a:off x="1258920" y="5805360"/>
            <a:ext cx="684036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1" dur="10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6" dur="10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5" name="图片 54276" descr=""/>
          <p:cNvPicPr/>
          <p:nvPr/>
        </p:nvPicPr>
        <p:blipFill>
          <a:blip r:embed="rId1"/>
          <a:stretch/>
        </p:blipFill>
        <p:spPr>
          <a:xfrm>
            <a:off x="628560" y="2152800"/>
            <a:ext cx="7886880" cy="2552400"/>
          </a:xfrm>
          <a:prstGeom prst="rect">
            <a:avLst/>
          </a:prstGeom>
          <a:ln w="0">
            <a:noFill/>
          </a:ln>
        </p:spPr>
      </p:pic>
      <p:pic>
        <p:nvPicPr>
          <p:cNvPr id="956" name="Picture 1" descr=""/>
          <p:cNvPicPr/>
          <p:nvPr/>
        </p:nvPicPr>
        <p:blipFill>
          <a:blip r:embed="rId2"/>
          <a:stretch/>
        </p:blipFill>
        <p:spPr>
          <a:xfrm>
            <a:off x="1116000" y="3471840"/>
            <a:ext cx="6840720" cy="447840"/>
          </a:xfrm>
          <a:prstGeom prst="rect">
            <a:avLst/>
          </a:prstGeom>
          <a:ln w="0">
            <a:noFill/>
          </a:ln>
        </p:spPr>
      </p:pic>
      <p:pic>
        <p:nvPicPr>
          <p:cNvPr id="957" name="Picture 1" descr=""/>
          <p:cNvPicPr/>
          <p:nvPr/>
        </p:nvPicPr>
        <p:blipFill>
          <a:blip r:embed="rId3"/>
          <a:stretch/>
        </p:blipFill>
        <p:spPr>
          <a:xfrm>
            <a:off x="1116000" y="4019400"/>
            <a:ext cx="684072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10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8" dur="10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8" name="图片 52231" descr=""/>
          <p:cNvPicPr/>
          <p:nvPr/>
        </p:nvPicPr>
        <p:blipFill>
          <a:blip r:embed="rId1"/>
          <a:stretch/>
        </p:blipFill>
        <p:spPr>
          <a:xfrm>
            <a:off x="257040" y="641520"/>
            <a:ext cx="8629920" cy="6172200"/>
          </a:xfrm>
          <a:prstGeom prst="rect">
            <a:avLst/>
          </a:prstGeom>
          <a:ln w="0">
            <a:noFill/>
          </a:ln>
        </p:spPr>
      </p:pic>
      <p:pic>
        <p:nvPicPr>
          <p:cNvPr id="959" name="图片 52233" descr=""/>
          <p:cNvPicPr/>
          <p:nvPr/>
        </p:nvPicPr>
        <p:blipFill>
          <a:blip r:embed="rId2"/>
          <a:stretch/>
        </p:blipFill>
        <p:spPr>
          <a:xfrm>
            <a:off x="812880" y="2529000"/>
            <a:ext cx="3343320" cy="4314600"/>
          </a:xfrm>
          <a:prstGeom prst="rect">
            <a:avLst/>
          </a:prstGeom>
          <a:ln w="0">
            <a:noFill/>
          </a:ln>
        </p:spPr>
      </p:pic>
      <p:pic>
        <p:nvPicPr>
          <p:cNvPr id="960" name="图片 52234" descr=""/>
          <p:cNvPicPr/>
          <p:nvPr/>
        </p:nvPicPr>
        <p:blipFill>
          <a:blip r:embed="rId3"/>
          <a:stretch/>
        </p:blipFill>
        <p:spPr>
          <a:xfrm>
            <a:off x="4745160" y="2565360"/>
            <a:ext cx="416232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55" dur="5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60" dur="5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20T08:31:06Z</dcterms:modified>
  <cp:revision>19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